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A2F8C-DF90-4030-90AC-768C947402F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B365B-145A-461C-A1DA-6B94289801C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F7D5C-02CB-4321-B22F-AE56652398A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5D1AF-E741-45B3-8159-0D65680AE219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D16F-9D04-4C40-8210-A14F2D07EDB0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8A647-560F-4696-B4BF-A1BB0B13BF5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5235-6E0D-49BE-BA66-7DA246BBB9D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D333C-5A2E-4B73-90BA-40D684FA850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8E48-98E6-4BA7-A396-644E5EBF923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49FBC-204D-440D-AAC6-76889DC79F1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25F9-570B-4A1F-BE29-A0DFC3536DB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75C4-D28B-4948-9B6F-98A1DA4D489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6F25D-863D-4B4A-B858-36E8B1D21F8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17B98-FA15-40F6-9C23-21C991C4B35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7DF8-B7C2-459C-ACFB-60E5A41CA6BD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150B-F6C6-4765-BB8D-419E6B18952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520F5-410C-4FDB-93B6-782F68DEE84B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8B8F-86CF-4053-BAD2-9FF22B5DD73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B944-EA88-43BD-8246-946B1FC75B6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C9C0-0D68-438B-A91C-31ECDA077D76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BEC89-0349-483C-BDF7-7099C840160A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1FFF2-4019-476F-B367-CEC160FD45A6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0DC7-4328-4A18-8A5B-78B2A786A6AE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65529-5D70-4EA6-A752-F4750CF7F1B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AF3A-98A7-4E6F-956F-E367336971E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2ED40-292B-46A4-9E14-CF796953B6C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D3906-D3E6-4E81-A125-75DA04CF2B4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64786-AFB2-4E10-AF87-D8D1F1D0CE3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9EFA2-22CE-4752-B4B8-3D0717A5E302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CB62F-22B1-434A-8FED-809F027F678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1AD80-A9A8-4A6C-AB08-D753DC681F41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304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7720" y="129492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88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5304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7720" y="3062160"/>
            <a:ext cx="291816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88720" y="298080"/>
            <a:ext cx="90630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2720" y="306216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8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720" y="1294920"/>
            <a:ext cx="44226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8720" y="3062160"/>
            <a:ext cx="9063000" cy="16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7000"/>
          </a:bodyPr>
          <a:p>
            <a:pPr marL="2984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is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1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2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3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4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5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lvl="6" marL="270720" indent="-270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kbvg@kbvg.n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kstvak 4"/>
          <p:cNvSpPr/>
          <p:nvPr/>
        </p:nvSpPr>
        <p:spPr>
          <a:xfrm>
            <a:off x="4319640" y="1058760"/>
            <a:ext cx="51274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(online curs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Vraag 3: wat is “VBR”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8720" y="1294920"/>
            <a:ext cx="8783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het digitale netwerk van de Belastingdienst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verbreding van het Digitale beslagregister van de gerechtsdeurwaarders met overheidspartij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Variable Bit Rate, de gebruikte techniek bij het encoderen van d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1680" indent="-301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Bliss"/>
              </a:rPr>
              <a:t>Ik wil PE-punten. Wat moet ik doen?</a:t>
            </a:r>
            <a:endParaRPr b="0" lang="en-US" sz="3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8720" y="1294920"/>
            <a:ext cx="90630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Stuur een email naar </a:t>
            </a:r>
            <a:r>
              <a:rPr b="0" lang="nl-NL" sz="2800" spc="-1" strike="noStrike" u="sng">
                <a:solidFill>
                  <a:srgbClr val="ccccff"/>
                </a:solidFill>
                <a:uFillTx/>
                <a:latin typeface="Bliss"/>
                <a:hlinkClick r:id="rId2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onderwerpregel: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Antwoorden PE-vragen VBVV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In de mail: 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voor- en achternaam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Bliss"/>
              </a:rPr>
              <a:t>voluit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KBvG-lidnummer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liss"/>
              </a:rPr>
              <a:t>Antwoorden MC-vragen, bv: 1a, 2b, 3c</a:t>
            </a: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lvl="1" marL="453960" indent="-242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Bliss"/>
            </a:endParaRPr>
          </a:p>
          <a:p>
            <a:pPr marL="242280" indent="-242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5543640" y="2592360"/>
            <a:ext cx="4174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Bliss"/>
              </a:rPr>
              <a:t>Dank voor uw aandach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720" y="298440"/>
            <a:ext cx="9063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nten voora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2920" y="1326960"/>
            <a:ext cx="90644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Q&amp;A voor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Cursus achteraf beschikbaar via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Link wordt gedeeld met de l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PE-punten worden toegekend op basis van beantwoording MC-vragen na af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Drie vragen met elk drie antwoordkeu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calaSans Regular"/>
              </a:rPr>
              <a:t>Antwoorden opsturen naar </a:t>
            </a:r>
            <a:r>
              <a:rPr b="0" lang="nl-NL" sz="2800" spc="-1" strike="noStrike" u="sng">
                <a:solidFill>
                  <a:srgbClr val="0070c0"/>
                </a:solidFill>
                <a:uFillTx/>
                <a:latin typeface="ScalaSans Regular"/>
              </a:rPr>
              <a:t>kbvg@kbvg.n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4680" y="0"/>
            <a:ext cx="10074240" cy="5668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59280" y="585720"/>
            <a:ext cx="5398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4319640" y="1058760"/>
            <a:ext cx="51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et vereenvoudiging beslagvrije v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89080" y="1563840"/>
            <a:ext cx="90709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17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928440"/>
            <a:ext cx="755964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Bliss"/>
              </a:rPr>
              <a:t>Vragen?</a:t>
            </a:r>
            <a:endParaRPr b="0" lang="en-US" sz="96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60000" y="2977920"/>
            <a:ext cx="755964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Multiple choice-vragen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Wet vereenvoudiging</a:t>
            </a:r>
            <a:br>
              <a:rPr sz="6000"/>
            </a:b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beslagvrije voet</a:t>
            </a: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5520" indent="-3207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Symbol" charset="2"/>
              <a:buChar char="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7240" y="1414080"/>
            <a:ext cx="869472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Bliss"/>
              </a:rPr>
              <a:t>Houdt u pen en papier bij de hand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3793680"/>
            <a:ext cx="8694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4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5667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Bliss"/>
              </a:rPr>
              <a:t>Vraag 1: wat was de aanleiding voor de nieuwe beslagvrije voet?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8720" y="1294920"/>
            <a:ext cx="81356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e samenloop van beslagen en verrekeningen is onwenselijk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Er is nu vaak te weinig informatie om de beslagvrije voet goed te kunnen vaststell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oor de coronacrisis is de belangstelling voor de schuldenproblematiek toegenomen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70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89080" y="298440"/>
            <a:ext cx="907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9080" y="1398600"/>
            <a:ext cx="907092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784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720" y="298080"/>
            <a:ext cx="90630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nl-NL" sz="3200" spc="-1" strike="noStrike">
                <a:solidFill>
                  <a:srgbClr val="000000"/>
                </a:solidFill>
                <a:latin typeface="Calibri"/>
                <a:ea typeface="Calibri"/>
              </a:rPr>
              <a:t>Vraag 2: wat of wie is de coördinerende deurwaarde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8720" y="1294920"/>
            <a:ext cx="8638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a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een functionaliteit van de nieuwe rekenmodul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b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met een preferente vordering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c.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liss"/>
              </a:rPr>
              <a:t>Dat is de beslaglegger die int, verdeelt, en aanspreekpunt is voor schuldenaar en derde.</a:t>
            </a: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lis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stin van Elst</dc:creator>
  <dc:description/>
  <dc:language>en-US</dc:language>
  <cp:lastModifiedBy>Masha Ilse Cazemier</cp:lastModifiedBy>
  <dcterms:modified xsi:type="dcterms:W3CDTF">2020-11-12T13:03:22Z</dcterms:modified>
  <cp:revision>68</cp:revision>
  <dc:subject/>
  <dc:title>PowerPoint-presentatie</dc:title>
</cp:coreProperties>
</file>